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403-94D5-4EBC-BCB2-E0971C62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93D-4482-4005-B99A-62F9D076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945-3005-45E0-8AEF-838DE4CF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64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64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083-F03B-4E43-B415-D4FEDD68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CD2-25AC-4CA8-B432-2FD7352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6F6-6DB2-448F-8F2D-0E46DEBF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4DD-6B8D-4CEB-BF38-4FBFCD9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68F-4AA1-4720-B637-0F9A7B08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66652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D40-D726-4674-B45F-2AACC4D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0A-6ED1-4B80-95E6-118FE4E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14C-AD87-4C37-9FE5-67C67F1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5EF-4D92-4F59-AF2E-8839D4A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051-3D42-4185-8FAB-FD2D5D33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10291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acryocystiti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mv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of selden new yor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abiesru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ool toy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andbox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g island of hawaii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Ezpas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jones beach concer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icketmast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uy vicodi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pamalot broadwa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icked broadwa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ax museum ny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rugtes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long drugs stay in syste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drug hash how long does it stay in body syste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scharge of clear fluid sack not pregna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varian cy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ood work cbc wb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ormal white blood count for human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un dresses for toddler girl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hite blood count with kidney stone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hite blood count with leukem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tlantis bahama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of st. luc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andles in st. luc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re kidney stones infections. do kidney stones raise your wbc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erizonwirelessrington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otorola razor phone recal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ood in uri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an cat scan see bladder canc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trop atlantic ci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an vicoden or percocet make blood in uri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terine fibroids and bladder pressur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adder polyp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jogging stroll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ld hoop earin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eal or no dea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la weight los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2 year old and lazy eye turns outward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astric bypass surge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ymptoms of bladder canc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shkos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adder infecti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elebrity cooking showdown vot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merican ido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on jovi tickets giant stadiu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ata processors needed from hom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ilton hawai village honolulu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abetes di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est bu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lindamyci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flutter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Lanebrya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ennicillia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ulmonary disea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eleflori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murm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skips a bea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abetes and fast pulse or skip heart beat choking feel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10291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lly joel madison square garde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wo year old with lazy eye red in inner corner of ey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inner corner of eye is red swoll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7-05-10T20:51:24Z</dcterms:modified>
  <cp:revision>22</cp:revision>
  <dc:subject/>
  <dc:title>PowerPoint Presentation</dc:title>
</cp:coreProperties>
</file>