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5C0-0802-45D8-B1CF-1F19B3DB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6645240"/>
            <a:ext cx="883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782-332D-4809-B24A-54DAD8B0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664524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664524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EAC-3691-4F20-8CE5-CA665DA9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449568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640" y="449568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664524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664524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640" y="664524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91C-5A56-4E85-BCA0-C1460EF0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8DD-5274-4765-A645-442477FD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7E4-E985-43DC-9E39-FD266C1E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F21-2674-407C-AA9D-967CF62E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64D-578C-4B45-A505-2E73D380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266652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BF8-2EF8-4196-B974-6B08C754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664524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D4E-BC1E-4E42-ABA0-0B630CD2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664524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370-B944-4007-836B-5B38F3D7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6645240"/>
            <a:ext cx="883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10A-AA53-4072-A4ED-8F2BE1CB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2FCF-E2C4-42C5-8B38-FC3A6AEAF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user #2708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&lt;name deleted&gt;’s sample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stories or samples of reveng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encyclopedia of reveng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voice chang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underground help for reveng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elp for reveng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real-time sp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ss lotter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&lt;deleted&gt; home service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to humiliate someon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revenge tactic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cd's to order and bu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12 cd's for the price of on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ill me pay later for cd'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scams to play on peopl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playing tricks on someon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humiliate someon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to make someone misreabl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to drive someone craz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to get revenge on an old lov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i hate my ex boyfriend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rblehead massachusetts librar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to really make someone hurt for the pain they caused to someone els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&lt;name deleted&gt;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things to send to emails that are fre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free email addresse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google.co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columbia hous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Googl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free porn mpeg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www.pseudomailer.co.uk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&lt;address deleted&gt;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the woman's book of reveng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p ques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names of dog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verizon.ne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dvice on how to get revenge on an old lov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ate.co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dvice from women who have seeked revenge on old lover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Googl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name search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tmail.co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Googl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to torment someon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en's voice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ownload men's voice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2666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kehimsweat.co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152280" y="2666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kehimsuffer.co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kehimpay.co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kehimsweat.ne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kehimpay.ne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gettingrevenge.ne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 desert terrain where fifteen different salts crunch underfoot where is this plac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to say goodbye hurtfully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lt.reveng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irty tricks for chick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out of business by dennis fieri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21st century reveng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07-07-20T16:28:07Z</dcterms:modified>
  <cp:revision>25</cp:revision>
  <dc:subject/>
  <dc:title>PowerPoint Presentation</dc:title>
</cp:coreProperties>
</file>